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DA2F0-AC39-4F09-AE2A-6DBDEFEE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50FC1-CC29-49CA-8B6A-9E985BC6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FFA93-86DF-47FA-A489-6918030C5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66305-3C51-4DCE-AE0C-B84DD98F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96E14-AC9A-44C9-AD83-3A57FCDA3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EE60-F2A9-418A-95B9-49400795A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7BF48-135A-463F-865F-F1FC7C20B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EB36C-DB1D-4E8A-8871-A9B4A777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D9A53-C0F1-4B93-84EB-0B20185FA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34DA5-4F3A-43BF-8F9C-B4E37E9C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D896D-2388-4E17-BF3A-E10522B4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6CCA-D396-4A35-AAEB-92806A8B3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CAAE0-9CD4-40EC-9A44-5E64CE2E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C3486-35B2-4251-B5F3-8A0BE6EA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6837C-0DE8-4841-9B98-D2FC7AC9E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781F9-B088-4271-87CB-01796C61F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B01E2-7228-4B76-AEA4-5BF108AB7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29BF8-D4FC-4494-AD5D-152F33817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CF231-DE1D-436F-8FCD-E405AC4DE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80710-8DEA-4376-AE89-0D8FEA387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C613D-6108-4B46-B99B-531BF9196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8A0EE-AE7F-451C-BB42-0905A986D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C13E-7705-490D-916F-85C9AC700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FF8FD-7B5C-4517-A06A-4E249BDDD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3C896-3C48-4C43-8DAD-BEB317B89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031A7-F7EB-4A23-937D-ED49FDD91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2EFD0-3729-419D-B2B0-FD3F8CDF5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25F4E-7CB0-417A-BC17-957DAB6F6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A077B-B6EC-4F63-B8A4-53A2CD3F9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2C5AD-CC74-4201-8567-BBD942110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38983B-71FB-4A1B-A7D9-E7B41B0B91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21D24-61FB-4ADA-865F-49E2D0BBA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4D723-AA42-4088-9D58-4E19A7531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862A0-07A5-4225-AFCD-B6BF404B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D2F21-A0A6-4A79-AE4A-F23898818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B32DB-32D5-499F-B22B-21704E458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BC5F8-970F-4EEC-8BA7-BC022715F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0A092-A9B9-4533-A78B-A64FCF651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5453B-B0AC-4EC4-9260-338A000B2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F4D07-BAC6-4E07-AA4E-3C1A1C5F3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21B65-ED95-4673-85A5-BDD626E17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749165-A42F-44A6-9B94-573264CF9E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136A41-27AC-4F84-A2B7-380D599A9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A3880-73D7-42EF-AA67-FC35A7637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6FD8-81D8-4542-8225-B6E5FB78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3820D-9C5D-437D-8E0F-7F0CC9B069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40F187-2987-47C8-B91D-F012A4240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B12562-4DF1-48E9-B7DD-26C86A65C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D5BF5-8467-4ACA-BF3A-0631D0189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D71E3-88DD-461C-AB4A-B1B6A560E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67459-AED5-4F2D-BEB0-C6437814A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99C2F-F46C-40B7-B815-F8BBD287F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E7BD3-BD70-4DCF-906D-E6E011F7C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E803D-A411-4C85-B119-BE7348B9A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10D891-E8D6-4B2B-B4D2-87A097558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0DE3-D663-4203-8745-45FC5DA80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CFAA8-9B6D-46CA-BA0F-14A3F2ECE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F019-7201-4D20-8536-0FA074AFF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1B164-988C-4526-879E-618353208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2DE1-FCA4-4C2A-A3B7-2A03467B7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4707-1DF6-45FE-AB25-9524A19BA486}"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10"/>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BEF9-117E-4766-A4A5-694A310B1E7A}"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Rectangle 10"/>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DADA-D5A1-4C60-80E7-6F72B3704F22}"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Straight Connector 9"/>
          <p:cNvSpPr/>
          <p:nvPr/>
        </p:nvSpPr>
        <p:spPr>
          <a:xfrm>
            <a:off x="758880" y="1249200"/>
            <a:ext cx="3657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32" name="Straight Connector 10"/>
          <p:cNvSpPr/>
          <p:nvPr/>
        </p:nvSpPr>
        <p:spPr>
          <a:xfrm>
            <a:off x="4645080" y="1249200"/>
            <a:ext cx="3657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7C6B-E91C-4CF0-AB0A-42BA91ACCF0D}"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Straight Connector 9"/>
          <p:cNvSpPr/>
          <p:nvPr/>
        </p:nvSpPr>
        <p:spPr>
          <a:xfrm flipH="1">
            <a:off x="3580920" y="611280"/>
            <a:ext cx="1800" cy="3809880"/>
          </a:xfrm>
          <a:prstGeom prst="line">
            <a:avLst/>
          </a:prstGeom>
          <a:ln w="15840">
            <a:solidFill>
              <a:srgbClr val="ffa6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ED63-BB49-4D90-9AF4-174AED3FD79D}"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048120"/>
            <a:ext cx="75438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Impact"/>
              </a:rPr>
              <a:t>Little Red </a:t>
            </a:r>
            <a:br>
              <a:rPr sz="8000"/>
            </a:br>
            <a:r>
              <a:rPr b="0" lang="en-US" sz="8000" spc="-1" strike="noStrike">
                <a:solidFill>
                  <a:srgbClr val="262626"/>
                </a:solidFill>
                <a:latin typeface="Impact"/>
              </a:rPr>
              <a:t>Riding Hood</a:t>
            </a:r>
            <a:endParaRPr b="0" lang="en-US" sz="8000" spc="-1" strike="noStrike">
              <a:solidFill>
                <a:srgbClr val="262626"/>
              </a:solidFill>
              <a:latin typeface="Impact"/>
            </a:endParaRPr>
          </a:p>
        </p:txBody>
      </p:sp>
      <p:sp>
        <p:nvSpPr>
          <p:cNvPr id="219" name="PlaceHolder 2"/>
          <p:cNvSpPr>
            <a:spLocks noGrp="1"/>
          </p:cNvSpPr>
          <p:nvPr>
            <p:ph type="subTitle"/>
          </p:nvPr>
        </p:nvSpPr>
        <p:spPr>
          <a:xfrm>
            <a:off x="685800" y="5638680"/>
            <a:ext cx="6858000" cy="990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d4e00"/>
                </a:solidFill>
                <a:latin typeface="Times New Roman"/>
              </a:rPr>
              <a:t>Recorded by Charles Perrault</a:t>
            </a:r>
            <a:endParaRPr b="0" lang="en-US" sz="2800" spc="-1" strike="noStrike">
              <a:solidFill>
                <a:srgbClr val="9d4e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609480" y="533520"/>
            <a:ext cx="769644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The better to embrace you, my child!” </a:t>
            </a:r>
            <a:br>
              <a:rPr sz="2800"/>
            </a:br>
            <a:r>
              <a:rPr b="0" lang="en-US" sz="2800" spc="-1" strike="noStrike">
                <a:solidFill>
                  <a:srgbClr val="000000"/>
                </a:solidFill>
                <a:latin typeface="Baskerville Old Face"/>
              </a:rPr>
              <a:t>“Grandmother dear, what big legs you have!” </a:t>
            </a:r>
            <a:br>
              <a:rPr sz="2800"/>
            </a:br>
            <a:r>
              <a:rPr b="0" lang="en-US" sz="2800" spc="-1" strike="noStrike">
                <a:solidFill>
                  <a:srgbClr val="000000"/>
                </a:solidFill>
                <a:latin typeface="Baskerville Old Face"/>
              </a:rPr>
              <a:t>“The better to run with, my child!” </a:t>
            </a:r>
            <a:br>
              <a:rPr sz="2800"/>
            </a:br>
            <a:r>
              <a:rPr b="0" lang="en-US" sz="2800" spc="-1" strike="noStrike">
                <a:solidFill>
                  <a:srgbClr val="000000"/>
                </a:solidFill>
                <a:latin typeface="Baskerville Old Face"/>
              </a:rPr>
              <a:t>“Grandmother dear, what big ears you have!” </a:t>
            </a:r>
            <a:br>
              <a:rPr sz="2800"/>
            </a:br>
            <a:r>
              <a:rPr b="0" lang="en-US" sz="2800" spc="-1" strike="noStrike">
                <a:solidFill>
                  <a:srgbClr val="000000"/>
                </a:solidFill>
                <a:latin typeface="Baskerville Old Face"/>
              </a:rPr>
              <a:t>“The better to hear with, my child!” </a:t>
            </a:r>
            <a:br>
              <a:rPr sz="2800"/>
            </a:br>
            <a:r>
              <a:rPr b="0" lang="en-US" sz="2800" spc="-1" strike="noStrike">
                <a:solidFill>
                  <a:srgbClr val="000000"/>
                </a:solidFill>
                <a:latin typeface="Baskerville Old Face"/>
              </a:rPr>
              <a:t>“Grandmother dear, what big eyes you have!” </a:t>
            </a:r>
            <a:br>
              <a:rPr sz="2800"/>
            </a:br>
            <a:r>
              <a:rPr b="0" lang="en-US" sz="2800" spc="-1" strike="noStrike">
                <a:solidFill>
                  <a:srgbClr val="000000"/>
                </a:solidFill>
                <a:latin typeface="Baskerville Old Face"/>
              </a:rPr>
              <a:t>“The better to see with, my child!” </a:t>
            </a:r>
            <a:br>
              <a:rPr sz="2800"/>
            </a:br>
            <a:r>
              <a:rPr b="0" lang="en-US" sz="2800" spc="-1" strike="noStrike">
                <a:solidFill>
                  <a:srgbClr val="000000"/>
                </a:solidFill>
                <a:latin typeface="Baskerville Old Face"/>
              </a:rPr>
              <a:t>“Grandmother dear, what big teeth you have!” </a:t>
            </a:r>
            <a:br>
              <a:rPr sz="2800"/>
            </a:br>
            <a:r>
              <a:rPr b="0" lang="en-US" sz="2800" spc="-1" strike="noStrike">
                <a:solidFill>
                  <a:srgbClr val="000000"/>
                </a:solidFill>
                <a:latin typeface="Baskerville Old Face"/>
              </a:rPr>
              <a:t>“The better to eat you with!” </a:t>
            </a:r>
            <a:br>
              <a:rPr sz="2800"/>
            </a:br>
            <a:r>
              <a:rPr b="0" lang="en-US" sz="2800" spc="-1" strike="noStrike">
                <a:solidFill>
                  <a:srgbClr val="000000"/>
                </a:solidFill>
                <a:latin typeface="Baskerville Old Face"/>
              </a:rPr>
              <a:t>With these words the wicked Wolf leaped upon Little Red Riding Hood and gobbled her u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990720" y="762120"/>
            <a:ext cx="64767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askerville Old Face"/>
              </a:rPr>
              <a:t>Mo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Little girls, this seems to say, </a:t>
            </a:r>
            <a:br>
              <a:rPr sz="2800"/>
            </a:br>
            <a:r>
              <a:rPr b="1" lang="en-US" sz="2800" spc="-1" strike="noStrike">
                <a:solidFill>
                  <a:srgbClr val="000000"/>
                </a:solidFill>
                <a:latin typeface="Baskerville Old Face"/>
              </a:rPr>
              <a:t>Never stop upon your way. </a:t>
            </a:r>
            <a:br>
              <a:rPr sz="2800"/>
            </a:br>
            <a:r>
              <a:rPr b="1" lang="en-US" sz="2800" spc="-1" strike="noStrike">
                <a:solidFill>
                  <a:srgbClr val="000000"/>
                </a:solidFill>
                <a:latin typeface="Baskerville Old Face"/>
              </a:rPr>
              <a:t>Never trust a stranger-friend; </a:t>
            </a:r>
            <a:br>
              <a:rPr sz="2800"/>
            </a:br>
            <a:r>
              <a:rPr b="1" lang="en-US" sz="2800" spc="-1" strike="noStrike">
                <a:solidFill>
                  <a:srgbClr val="000000"/>
                </a:solidFill>
                <a:latin typeface="Baskerville Old Face"/>
              </a:rPr>
              <a:t>No one knows how it will end. </a:t>
            </a:r>
            <a:br>
              <a:rPr sz="2800"/>
            </a:br>
            <a:r>
              <a:rPr b="1" lang="en-US" sz="2800" spc="-1" strike="noStrike">
                <a:solidFill>
                  <a:srgbClr val="000000"/>
                </a:solidFill>
                <a:latin typeface="Baskerville Old Face"/>
              </a:rPr>
              <a:t>As you’re pretty, so be wise; </a:t>
            </a:r>
            <a:br>
              <a:rPr sz="2800"/>
            </a:br>
            <a:r>
              <a:rPr b="1" lang="en-US" sz="2800" spc="-1" strike="noStrike">
                <a:solidFill>
                  <a:srgbClr val="000000"/>
                </a:solidFill>
                <a:latin typeface="Baskerville Old Face"/>
              </a:rPr>
              <a:t>Wolves may lurk in every guise. </a:t>
            </a:r>
            <a:br>
              <a:rPr sz="2800"/>
            </a:br>
            <a:r>
              <a:rPr b="1" lang="en-US" sz="2800" spc="-1" strike="noStrike">
                <a:solidFill>
                  <a:srgbClr val="000000"/>
                </a:solidFill>
                <a:latin typeface="Baskerville Old Face"/>
              </a:rPr>
              <a:t>Handsome they may be, and kind, </a:t>
            </a:r>
            <a:br>
              <a:rPr sz="2800"/>
            </a:br>
            <a:r>
              <a:rPr b="1" lang="en-US" sz="2800" spc="-1" strike="noStrike">
                <a:solidFill>
                  <a:srgbClr val="000000"/>
                </a:solidFill>
                <a:latin typeface="Baskerville Old Face"/>
              </a:rPr>
              <a:t>Gay, or charming never mind! </a:t>
            </a:r>
            <a:br>
              <a:rPr sz="2800"/>
            </a:br>
            <a:r>
              <a:rPr b="1" lang="en-US" sz="2800" spc="-1" strike="noStrike">
                <a:solidFill>
                  <a:srgbClr val="000000"/>
                </a:solidFill>
                <a:latin typeface="Baskerville Old Face"/>
              </a:rPr>
              <a:t>Now, as then, ‘tis simple truth— </a:t>
            </a:r>
            <a:br>
              <a:rPr sz="2800"/>
            </a:br>
            <a:r>
              <a:rPr b="1" lang="en-US" sz="2800" spc="-1" strike="noStrike">
                <a:solidFill>
                  <a:srgbClr val="000000"/>
                </a:solidFill>
                <a:latin typeface="Baskerville Old Face"/>
              </a:rPr>
              <a:t>Sweetest tongue has sharpest too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762120" y="1371600"/>
            <a:ext cx="7886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re was a little village girl, the prettiest that had ever been seen. Her mother doted on her. Her grandmother was even fonder, and made her a little red hood, which became her so well that everywhere she went by the name of Little Red Riding Hood. One day her mother, who had just made and baked some cakes, said to her: “Go and see how your grandmother is, for I have been told that she is ill. Take her a cake and this little pot of butter." </a:t>
            </a:r>
            <a:br>
              <a:rPr sz="2800"/>
            </a:br>
            <a:r>
              <a:rPr b="0" lang="en-US" sz="2800" spc="-1" strike="noStrike">
                <a:solidFill>
                  <a:srgbClr val="000000"/>
                </a:solidFill>
                <a:latin typeface="Baskerville Old Face"/>
              </a:rPr>
              <a:t>Little Red Riding Hood set off at once for the house of her grandmother, who lived in another village. </a:t>
            </a:r>
            <a:br>
              <a:rPr sz="2800"/>
            </a:br>
            <a:endParaRPr b="0" lang="en-US" sz="2800" spc="-1" strike="noStrike">
              <a:solidFill>
                <a:srgbClr val="000000"/>
              </a:solidFill>
              <a:latin typeface="Times New Roman"/>
            </a:endParaRPr>
          </a:p>
        </p:txBody>
      </p:sp>
      <p:sp>
        <p:nvSpPr>
          <p:cNvPr id="221" name="TextBox 2"/>
          <p:cNvSpPr/>
          <p:nvPr/>
        </p:nvSpPr>
        <p:spPr>
          <a:xfrm>
            <a:off x="762120" y="7254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Once upon a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685800" y="1219320"/>
            <a:ext cx="79246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n her way through a wood she met old Father Wolf. He would have very much liked to eat her, but dared not do so on account of some woodcutters who were in the forest. He asked her where she was going. The poor child, not knowing that it was dangerous to stop and listen to a wolf said: “I am going to see my grandmother, and am taking her a cake and a pot of butter which my mother has sent to her." “Does she live far away?” asked the Wolf.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685800" y="1447920"/>
            <a:ext cx="7924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Oh yes,” replied Little Red Riding Hood; “it is yonder by the mill which you can see right below there, and it is the first house in the village." </a:t>
            </a:r>
            <a:br>
              <a:rPr sz="2800"/>
            </a:br>
            <a:r>
              <a:rPr b="0" lang="en-US" sz="2800" spc="-1" strike="noStrike">
                <a:solidFill>
                  <a:srgbClr val="000000"/>
                </a:solidFill>
                <a:latin typeface="Baskerville Old Face"/>
              </a:rPr>
              <a:t>“Well now,” said the Wolf “I think I shall go and see her too. I will go by this path, and you by that path, and we will see who gets there firs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660240" y="137160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Wolf set off running with all his might by the shorter road, and the little girl continued on her way by the longer road. As she went she amused herself by gathering nuts, running after the butterflies, and making nosegays of the wild flowers which she found. </a:t>
            </a:r>
            <a:br>
              <a:rPr sz="2800"/>
            </a:br>
            <a:r>
              <a:rPr b="0" lang="en-US" sz="2800" spc="-1" strike="noStrike">
                <a:solidFill>
                  <a:srgbClr val="000000"/>
                </a:solidFill>
                <a:latin typeface="Baskerville Old Face"/>
              </a:rPr>
              <a:t>The Wolf was not long in reaching the grandmother’s house. He knocked. Toc Toc. </a:t>
            </a:r>
            <a:br>
              <a:rPr sz="2800"/>
            </a:br>
            <a:r>
              <a:rPr b="0" lang="en-US" sz="2800" spc="-1" strike="noStrike">
                <a:solidFill>
                  <a:srgbClr val="000000"/>
                </a:solidFill>
                <a:latin typeface="Baskerville Old Face"/>
              </a:rPr>
              <a:t>“Who is there?”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684360" y="16002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It is your little daughter, Red Riding Hood,” said the Wolf disguising his voice, “and I bring you a cake and a little pot of butter as a present from my mother.” </a:t>
            </a:r>
            <a:br>
              <a:rPr sz="2800"/>
            </a:br>
            <a:r>
              <a:rPr b="0" lang="en-US" sz="2800" spc="-1" strike="noStrike">
                <a:solidFill>
                  <a:srgbClr val="000000"/>
                </a:solidFill>
                <a:latin typeface="Baskerville Old Face"/>
              </a:rPr>
              <a:t>The worthy grandmother was in bed, not being very well, and cried out to him: </a:t>
            </a:r>
            <a:br>
              <a:rPr sz="2800"/>
            </a:br>
            <a:r>
              <a:rPr b="0" lang="en-US" sz="2800" spc="-1" strike="noStrike">
                <a:solidFill>
                  <a:srgbClr val="000000"/>
                </a:solidFill>
                <a:latin typeface="Baskerville Old Face"/>
              </a:rPr>
              <a:t>“Pull out the peg and the latch will f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684360" y="1600200"/>
            <a:ext cx="7848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Wolf drew out the peg and the door flew open. Then he sprang upon the poor old lady and ate her up in less than no time, for he had been more than three days without food. After that he shut the door, lay down in the grandmother’s bed, and waited for Little Red Riding Hood. </a:t>
            </a:r>
            <a:br>
              <a:rPr sz="2800"/>
            </a:br>
            <a:r>
              <a:rPr b="0" lang="en-US" sz="2800" spc="-1" strike="noStrike">
                <a:solidFill>
                  <a:srgbClr val="000000"/>
                </a:solidFill>
                <a:latin typeface="Baskerville Old Face"/>
              </a:rPr>
              <a:t>Presently she came and knocked. Toc Toc. </a:t>
            </a:r>
            <a:br>
              <a:rPr sz="2800"/>
            </a:br>
            <a:r>
              <a:rPr b="0" lang="en-US" sz="2800" spc="-1" strike="noStrike">
                <a:solidFill>
                  <a:srgbClr val="000000"/>
                </a:solidFill>
                <a:latin typeface="Baskerville Old Face"/>
              </a:rPr>
              <a:t>“Who is there?”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684360" y="16002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Baskerville Old Face"/>
              </a:rPr>
              <a:t>Now Little Red Riding Hood on hearing the Wolf’s gruff voice was at first frightened, but thinking that her grandmother had a bad cold, she replied: </a:t>
            </a:r>
            <a:br>
              <a:rPr sz="2800"/>
            </a:br>
            <a:r>
              <a:rPr b="0" lang="en-US" sz="2800" spc="-1" strike="noStrike">
                <a:solidFill>
                  <a:srgbClr val="000000"/>
                </a:solidFill>
                <a:latin typeface="Baskerville Old Face"/>
              </a:rPr>
              <a:t>“It is your little daughter, Red Riding Hood, and I bring you a cake and a little pot of butter from my mother.”</a:t>
            </a:r>
            <a:br>
              <a:rPr sz="2800"/>
            </a:br>
            <a:r>
              <a:rPr b="0" lang="en-US" sz="2800" spc="-1" strike="noStrike">
                <a:solidFill>
                  <a:srgbClr val="000000"/>
                </a:solidFill>
                <a:latin typeface="Baskerville Old Face"/>
              </a:rPr>
              <a:t>Softening his voice, the Wolf called out to her: </a:t>
            </a:r>
            <a:br>
              <a:rPr sz="2800"/>
            </a:br>
            <a:r>
              <a:rPr b="0" lang="en-US" sz="2800" spc="-1" strike="noStrike">
                <a:solidFill>
                  <a:srgbClr val="000000"/>
                </a:solidFill>
                <a:latin typeface="Baskerville Old Face"/>
              </a:rPr>
              <a:t>“Pull out the peg and the latch will fal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
          <p:cNvSpPr/>
          <p:nvPr/>
        </p:nvSpPr>
        <p:spPr>
          <a:xfrm>
            <a:off x="762120" y="914400"/>
            <a:ext cx="74674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ttle Red Riding Hood drew out the peg and the door flew open. </a:t>
            </a:r>
            <a:br>
              <a:rPr sz="2800"/>
            </a:br>
            <a:r>
              <a:rPr b="0" lang="en-US" sz="2800" spc="-1" strike="noStrike">
                <a:solidFill>
                  <a:srgbClr val="000000"/>
                </a:solidFill>
                <a:latin typeface="Baskerville Old Face"/>
              </a:rPr>
              <a:t>When he saw her enter, the Wolf hid himself in the bed beneath the counterpane. </a:t>
            </a:r>
            <a:br>
              <a:rPr sz="2800"/>
            </a:br>
            <a:r>
              <a:rPr b="0" lang="en-US" sz="2800" spc="-1" strike="noStrike">
                <a:solidFill>
                  <a:srgbClr val="000000"/>
                </a:solidFill>
                <a:latin typeface="Baskerville Old Face"/>
              </a:rPr>
              <a:t>“Put the cake and the little pot of butter on the bin,” he said, “and come up on the bed with me.” </a:t>
            </a:r>
            <a:br>
              <a:rPr sz="2800"/>
            </a:br>
            <a:r>
              <a:rPr b="0" lang="en-US" sz="2800" spc="-1" strike="noStrike">
                <a:solidFill>
                  <a:srgbClr val="000000"/>
                </a:solidFill>
                <a:latin typeface="Baskerville Old Face"/>
              </a:rPr>
              <a:t>Little Red Riding Hood took off her clothes, but when she climbed up on the bed she was astonished to see how her grandmother looked in her nightgown. </a:t>
            </a:r>
            <a:br>
              <a:rPr sz="2800"/>
            </a:br>
            <a:r>
              <a:rPr b="0" lang="en-US" sz="2800" spc="-1" strike="noStrike">
                <a:solidFill>
                  <a:srgbClr val="000000"/>
                </a:solidFill>
                <a:latin typeface="Baskerville Old Face"/>
              </a:rPr>
              <a:t>“Grandmother dear!” she exclaimed, “what big arms you hav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22:24:33Z</dcterms:created>
  <dc:creator>Sally Everson</dc:creator>
  <dc:description/>
  <dc:language>en-US</dc:language>
  <cp:lastModifiedBy>Sally Everson</cp:lastModifiedBy>
  <dcterms:modified xsi:type="dcterms:W3CDTF">2011-06-09T14:38:06Z</dcterms:modified>
  <cp:revision>8</cp:revision>
  <dc:subject/>
  <dc:title>Little Red  Riding Hood</dc:title>
</cp:coreProperties>
</file>